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2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563-4E70-4695-8C69-CA911E93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6C2-BB76-49F9-AD11-6E8FBCD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F0F-DA64-422B-8EED-E0E2EC7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364-67E4-495F-ACA7-62F27B1A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F5E-00D8-4983-A227-3CA7831F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53C-E557-4AA1-868D-3300610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AB3-5EE4-44DA-A4C0-BA0D458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2EB-A75F-4609-9856-1ACBE61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941-E6C0-41FA-A24A-A86D69D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D72-DE18-4513-9D5A-DA20865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64E-B01E-4524-A8E1-632155A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198-5B04-42E3-A8A7-D7C83306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1B5-D47B-407A-BC66-B51FFE9AA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acegardenchristianpreschool.com/images/food/hotdog_cartoon.gif&amp;imgrefurl=http://www.gracegardenchristianpreschool.com/foodprogram.htm&amp;h=119&amp;w=250&amp;sz=8&amp;hl=en&amp;start=6&amp;sig2=BkmNOZ1o5ltmVsEkh7Nkcw&amp;um=1&amp;usg=__skJCgT0liKC3HrzAJ2MpFxX5AHM=&amp;tbnid=SNDb7CXkWKvvcM:&amp;tbnh=53&amp;tbnw=111&amp;ei=GxP_SND6KZf-wgHh-4j6AQ&amp;prev=/images%3Fq%3Dhot%2Bdog%2Bcartoon%26um%3D1%26hl%3Den%26rlz%3D1T4GGIH_en-GBGB261GB26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kefronthartwell.com/bm~pix/milkshake~s600x600.jpg&amp;imgrefurl=http://www.lakefronthartwell.com/lakenews/coe/milkshakes-for-life-jackets.shtml&amp;h=267&amp;w=266&amp;sz=5&amp;hl=en&amp;start=2&amp;sig2=9lhOiTNGSHeCodM5JwTeGw&amp;um=1&amp;usg=__k7gybrc3rC5w1swKwgM_C_sDQWY=&amp;tbnid=Qw7kRC3bBx-MjM:&amp;tbnh=113&amp;tbnw=113&amp;ei=xhL_SMA_krDBAeTd3YQC&amp;prev=/images%3Fq%3Dmilkshake%26um%3D1%26hl%3Den%26rlz%3D1T4GGIH_en-GBGB261GB261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p3.blogger.com/_UIahlj6QfDI/Rz4tTrWJJaI/AAAAAAAAAB0/oKfkT6vtuyY/s320/Beer.jpg&amp;imgrefurl=http://charlostoons.blogspot.com/2007/11/beer-time.html&amp;h=290&amp;w=290&amp;sz=14&amp;hl=en&amp;start=28&amp;sig2=WBmDyVXAr9zsZcCmNvZ6oA&amp;um=1&amp;usg=__msV_EaT8gxnt8ZpMmya3XRjxHMc=&amp;tbnid=DVe70yTFCGmbKM:&amp;tbnh=115&amp;tbnw=115&amp;ei=_hL_SP2XF5ekwQHglZmJAg&amp;prev=/images%3Fq%3Dbeer%2Bcartoon%26start%3D20%26ndsp%3D20%26um%3D1%26hl%3Den%26rlz%3D1T4GGIH_en-GBGB261GB261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p3.blogger.com/_UIahlj6QfDI/Rz4tTrWJJaI/AAAAAAAAAB0/oKfkT6vtuyY/s320/Beer.jpg&amp;imgrefurl=http://charlostoons.blogspot.com/2007/11/beer-time.html&amp;h=290&amp;w=290&amp;sz=14&amp;hl=en&amp;start=28&amp;sig2=WBmDyVXAr9zsZcCmNvZ6oA&amp;um=1&amp;usg=__msV_EaT8gxnt8ZpMmya3XRjxHMc=&amp;tbnid=DVe70yTFCGmbKM:&amp;tbnh=115&amp;tbnw=115&amp;ei=_hL_SP2XF5ekwQHglZmJAg&amp;prev=/images%3Fq%3Dbeer%2Bcartoon%26start%3D20%26ndsp%3D20%26um%3D1%26hl%3Den%26rlz%3D1T4GGIH_en-GBGB261GB261%26sa%3D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hyperlink" Target="http://images.google.co.uk/imgres?imgurl=http://www.lakefronthartwell.com/bm~pix/milkshake~s600x600.jpg&amp;imgrefurl=http://www.lakefronthartwell.com/lakenews/coe/milkshakes-for-life-jackets.shtml&amp;h=267&amp;w=266&amp;sz=5&amp;hl=en&amp;start=2&amp;sig2=9lhOiTNGSHeCodM5JwTeGw&amp;um=1&amp;usg=__k7gybrc3rC5w1swKwgM_C_sDQWY=&amp;tbnid=Qw7kRC3bBx-MjM:&amp;tbnh=113&amp;tbnw=113&amp;ei=xhL_SMA_krDBAeTd3YQC&amp;prev=/images%3Fq%3Dmilkshake%26um%3D1%26hl%3Den%26rlz%3D1T4GGIH_en-GBGB261GB261%26sa%3D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.uk/imgres?imgurl=http://www.gracegardenchristianpreschool.com/images/food/hotdog_cartoon.gif&amp;imgrefurl=http://www.gracegardenchristianpreschool.com/foodprogram.htm&amp;h=119&amp;w=250&amp;sz=8&amp;hl=en&amp;start=6&amp;sig2=BkmNOZ1o5ltmVsEkh7Nkcw&amp;um=1&amp;usg=__skJCgT0liKC3HrzAJ2MpFxX5AHM=&amp;tbnid=SNDb7CXkWKvvcM:&amp;tbnh=53&amp;tbnw=111&amp;ei=GxP_SND6KZf-wgHh-4j6AQ&amp;prev=/images%3Fq%3Dhot%2Bdog%2Bcartoon%26um%3D1%26hl%3Den%26rlz%3D1T4GGIH_en-GBGB261GB261" TargetMode="External"/><Relationship Id="rId8" Type="http://schemas.openxmlformats.org/officeDocument/2006/relationships/image" Target="../media/image9.jpeg"/><Relationship Id="rId9" Type="http://schemas.openxmlformats.org/officeDocument/2006/relationships/image" Target="../media/image8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8/8a/Walkers_Ready_Salted_crisps_Mulitipack_bag.jpg/455px-Walkers_Ready_Salted_crisps_Mulitipack_bag.jpg&amp;imgrefurl=http://forums.mpora.com/showthread.php%3Fp%3D88308&amp;h=600&amp;w=455&amp;sz=65&amp;hl=en&amp;start=3&amp;sig2=3i0-aSR8kRA1VkYvvblEfw&amp;um=1&amp;usg=__9j49Xx6x-EwHLZKy-APBfK72TR4=&amp;tbnid=Ig6TkMQgMW9F0M:&amp;tbnh=135&amp;tbnw=102&amp;ei=TBP_SPmzEZf-wgHj-4j6AQ&amp;prev=/images%3Fq%3Dbag%2Bof%2Bcrisps%26um%3D1%26hl%3Den%26rlz%3D1T4GGIH_en-GBGB261GB26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268280"/>
            <a:ext cx="4248360" cy="501372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malo para la sal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bien para la sal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yuda una dieta equilib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me gusta desayu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tengo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 para ayudarte a concent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 para dart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fiero dormir m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ita la obe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fiero comer caramel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el Instit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341360"/>
            <a:ext cx="4249800" cy="46785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 don’t hav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t’s to give you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’d rather sleep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avoid obe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bad for your heal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good for your heal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prefer eating sweets at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’s to help you concent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don’t like eating breakf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helps a balanced di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89000"/>
            <a:ext cx="8280360" cy="93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y to match the Spanish and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k through, what are the KEY words in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hamburgu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276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perrito cal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349360"/>
            <a:ext cx="33368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bat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916280"/>
            <a:ext cx="31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limo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15224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Coca 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9274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cerv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844640"/>
            <a:ext cx="29239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57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0920" y="3141720"/>
            <a:ext cx="108900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12000" y="3141720"/>
            <a:ext cx="1074600" cy="231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3357720"/>
            <a:ext cx="180036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6000" y="1700280"/>
            <a:ext cx="1657080" cy="127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3635280" y="3573360"/>
            <a:ext cx="2184480" cy="1557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5435640" y="1628640"/>
            <a:ext cx="1692360" cy="139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3635280" y="1484280"/>
            <a:ext cx="1578240" cy="160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1835280" y="1557360"/>
            <a:ext cx="1765080" cy="139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395280" y="1484280"/>
            <a:ext cx="1247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28036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cep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ida ráp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l in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o también co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un estilo de alimentación donde el alimento se prepara y sirve para consumir rápidamente en establecimientos especializados (generalmente callejeros) o a pie de calle. El ejemplo de locales más extendido a nivel mundial, es la multinacional McDonald'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852640"/>
            <a:ext cx="4248360" cy="29779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parejas…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se dice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st f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food is prep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ume rapid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foot in the str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a global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5640" y="2852640"/>
            <a:ext cx="4429080" cy="297792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ida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p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 el alimento se pre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sumir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ápid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pie de ca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nivel mun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26828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ype up your answer to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-mail to Mrfulleredgehill@yahoo.co.u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desayun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opinas del desayuno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é piensas de la comida rápi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pinas del desayu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981000"/>
            <a:ext cx="0" cy="56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2560" y="692280"/>
            <a:ext cx="2305080" cy="635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3429000"/>
            <a:ext cx="288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malo para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620640"/>
            <a:ext cx="2305080" cy="6350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115920"/>
            <a:ext cx="676440" cy="100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14480" cy="911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59280" y="3500280"/>
            <a:ext cx="288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bien para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321300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para darte ener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3284640"/>
            <a:ext cx="374472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para ayudarte a 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429000"/>
            <a:ext cx="3527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tengo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3500280"/>
            <a:ext cx="3097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141720"/>
            <a:ext cx="3816360" cy="107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fiero comer carame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el In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28464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fiero dormir 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3068640"/>
            <a:ext cx="2881440" cy="1006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yuda una di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quilib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284640"/>
            <a:ext cx="2881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 la obe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333360"/>
            <a:ext cx="828036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cep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ida ráp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l in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o también co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f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un estilo de alimentación donde el alimento se prepara y sirve para consumir rápidamente en establecimientos especializados (generalmente callejeros) o a pie de calle. El ejemplo de locales más extendido a nivel mundial, es la multinacional McDonald'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852640"/>
            <a:ext cx="8280360" cy="29779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 parejas…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se dice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st food 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food is prepared _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ume rapidly 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foot in the street 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 a global level ________________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60280"/>
            <a:ext cx="842472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¿Qué opinas del desayu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í, 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o que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believe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 parece que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seems to me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key reasons for eating breakf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give your own opinions on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10 more items of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read a description of what fast foo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discuss opinions on fas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play a few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733560" cy="215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 bocad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 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s patatas fr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65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609480"/>
            <a:ext cx="7391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as patatas fr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700280"/>
            <a:ext cx="2444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6:52Z</dcterms:created>
  <dc:creator>Yvette</dc:creator>
  <dc:description/>
  <dc:language>en-US</dc:language>
  <cp:lastModifiedBy>Owner1</cp:lastModifiedBy>
  <dcterms:modified xsi:type="dcterms:W3CDTF">2008-10-22T12:44:48Z</dcterms:modified>
  <cp:revision>4</cp:revision>
  <dc:subject/>
  <dc:title>El menú</dc:title>
</cp:coreProperties>
</file>